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AE9CA-D40F-4005-9A6E-D98376349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09838-5BC4-4E4B-B8CB-296692A64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2BAB9-294F-4297-B742-5747B89FE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3CC38-78D0-4783-B611-C0988CB32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1313C-423B-414D-8905-206EFB110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5A1B0-EA13-4773-8E52-81803C69E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D24F4-097F-4220-A8BE-33A9470F0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79354-CE6F-48E1-AE28-73B470090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AA183-4484-4F1D-85F8-30017BA48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165E8-8719-4CB0-B7C9-902B64FB2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4CA38-3E53-4784-B62E-B617B8FDA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2005A-194F-4C2F-B775-3615DE872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DA33C-526C-47B2-A67B-CCE276C53C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560" y="-4803480"/>
            <a:ext cx="7308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>
            <a:off x="1908000" y="1989000"/>
            <a:ext cx="4105440" cy="24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Portugal...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sbon it is located on the coa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ography: Portugal is a contry located in southwestern europe on the iberian peninsul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pulation:10,707,924(77th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nguage:Portugue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get there:By car,by train,byboat,by pla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esting places to visit: A the roman of diana (Èvora)/the castle of guimarã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0T09:16:30Z</dcterms:created>
  <dc:creator>Guida</dc:creator>
  <dc:description/>
  <dc:language>en-US</dc:language>
  <cp:lastModifiedBy>Guida</cp:lastModifiedBy>
  <dcterms:modified xsi:type="dcterms:W3CDTF">2009-11-10T09:53:45Z</dcterms:modified>
  <cp:revision>2</cp:revision>
  <dc:subject/>
  <dc:title>Diapositivo 1</dc:title>
</cp:coreProperties>
</file>